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</p:sldIdLst>
  <p:sldSz cx="9144000" cy="6858000"/>
  <p:notesSz cx="6954838" cy="9240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955200" cy="924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132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1"/>
          </p:nvPr>
        </p:nvSpPr>
        <p:spPr>
          <a:xfrm>
            <a:off x="3940200" y="-360"/>
            <a:ext cx="30132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Img"/>
          </p:nvPr>
        </p:nvSpPr>
        <p:spPr>
          <a:xfrm>
            <a:off x="1168200" y="693720"/>
            <a:ext cx="4617720" cy="3463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694800" y="4389120"/>
            <a:ext cx="5564520" cy="4157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2"/>
          </p:nvPr>
        </p:nvSpPr>
        <p:spPr>
          <a:xfrm>
            <a:off x="0" y="8777160"/>
            <a:ext cx="301320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3"/>
          </p:nvPr>
        </p:nvSpPr>
        <p:spPr>
          <a:xfrm>
            <a:off x="3940200" y="8777160"/>
            <a:ext cx="301320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521D7DF4-D790-4042-9174-888965DFBA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940200" y="8777160"/>
            <a:ext cx="30132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B106C865-569E-4296-8559-DEE6306B28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94800" y="4389120"/>
            <a:ext cx="556452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940200" y="8777160"/>
            <a:ext cx="30132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CDA12B92-C941-4761-B56C-96924E211C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94800" y="4389120"/>
            <a:ext cx="556452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940200" y="8777160"/>
            <a:ext cx="30132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61F8B800-9C07-486E-AB0A-6A30624A35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94800" y="4389120"/>
            <a:ext cx="556452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940200" y="8777160"/>
            <a:ext cx="30132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801EA5C5-CEDF-4AA4-ACEA-9C017CE081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94800" y="4389120"/>
            <a:ext cx="556452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940200" y="8777160"/>
            <a:ext cx="30132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E3C48C26-38A6-43C2-9DEC-D669CDFA76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94800" y="4389120"/>
            <a:ext cx="556452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940200" y="8777160"/>
            <a:ext cx="30132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5D3E16C0-C592-4E95-A072-6D8723A82C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94800" y="4389120"/>
            <a:ext cx="556452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940200" y="8777160"/>
            <a:ext cx="30132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ED80F720-48CE-4790-A5DB-3A9B0093FC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94800" y="4389120"/>
            <a:ext cx="556452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940200" y="8777160"/>
            <a:ext cx="30132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D3A50859-C584-44E2-B4F5-38BB344C0F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94800" y="4389120"/>
            <a:ext cx="556452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940200" y="8777160"/>
            <a:ext cx="30132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4983DD2F-4A35-4C3C-86F6-23AAF15718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94800" y="4389120"/>
            <a:ext cx="556452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940200" y="8777160"/>
            <a:ext cx="30132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ABC356A0-07F1-4CBD-B801-D877D4E0E1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94800" y="4389120"/>
            <a:ext cx="556452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940200" y="8777160"/>
            <a:ext cx="30132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9D535406-8310-47EF-89EB-68EBD37ACD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94800" y="4389120"/>
            <a:ext cx="556452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940200" y="8777160"/>
            <a:ext cx="30132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828495E4-E068-4FE7-8800-09B1398040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94800" y="4389120"/>
            <a:ext cx="556452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940200" y="8777160"/>
            <a:ext cx="30132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43911AF2-58D9-4E87-AD41-A896B73B10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94800" y="4389120"/>
            <a:ext cx="556452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40200" y="8777160"/>
            <a:ext cx="30132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79C95A53-4A56-4952-8B9F-7DC473950C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4800" y="4389120"/>
            <a:ext cx="556452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40200" y="8777160"/>
            <a:ext cx="30132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A9595E79-538E-4DD1-A366-196329CDF6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4800" y="4389120"/>
            <a:ext cx="556452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40200" y="8777160"/>
            <a:ext cx="30132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292CC31C-0463-4EFD-83F1-E0378327DF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4800" y="4389120"/>
            <a:ext cx="556452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40200" y="8777160"/>
            <a:ext cx="30132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A409A24D-C844-437F-B8E8-31BE6EB3F9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4800" y="4389120"/>
            <a:ext cx="556452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40200" y="8777160"/>
            <a:ext cx="30132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61F56707-6ADC-494C-8344-E21326DA86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4800" y="4389120"/>
            <a:ext cx="556452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40200" y="8777160"/>
            <a:ext cx="30132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44906664-4B5C-440E-827E-D0DFA84647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4800" y="4389120"/>
            <a:ext cx="556452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40200" y="8777160"/>
            <a:ext cx="30132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5F2EFA10-C955-4DFE-B418-536C9D4578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4800" y="4389120"/>
            <a:ext cx="556452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940200" y="8777160"/>
            <a:ext cx="30132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7228077E-12A2-46A8-B154-0DCE792F3F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94800" y="4389120"/>
            <a:ext cx="556452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940200" y="8777160"/>
            <a:ext cx="30132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E97117CC-F9A9-488B-9B63-5A2E0AE7B7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94800" y="4389120"/>
            <a:ext cx="556452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940200" y="8777160"/>
            <a:ext cx="30132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083B5C26-AC5E-4BBF-9CA3-E732C438B7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94800" y="4389120"/>
            <a:ext cx="556452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940200" y="8777160"/>
            <a:ext cx="30132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16E9C60A-8D58-44D1-85C0-27FC051471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94800" y="4389120"/>
            <a:ext cx="556452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940200" y="8777160"/>
            <a:ext cx="30132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27C8C6D7-B8CF-4926-A821-0DC1C58D94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94800" y="4389120"/>
            <a:ext cx="556452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940200" y="8777160"/>
            <a:ext cx="30132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385BC0EB-5B08-480A-88CD-AC61111A9D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94800" y="4389120"/>
            <a:ext cx="556452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940200" y="8777160"/>
            <a:ext cx="30132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17579273-76FA-4B43-9FC0-AB164CE7BA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94800" y="4389120"/>
            <a:ext cx="556452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808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1600" y="1599840"/>
            <a:ext cx="7696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371600" y="3828600"/>
            <a:ext cx="7696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1599840"/>
            <a:ext cx="37555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15400" y="1599840"/>
            <a:ext cx="37555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1600" y="3828600"/>
            <a:ext cx="37555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315400" y="3828600"/>
            <a:ext cx="37555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808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600" y="1599840"/>
            <a:ext cx="24778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973680" y="1599840"/>
            <a:ext cx="24778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75760" y="1599840"/>
            <a:ext cx="24778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371600" y="3828600"/>
            <a:ext cx="24778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973680" y="3828600"/>
            <a:ext cx="24778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575760" y="3828600"/>
            <a:ext cx="24778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159984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159984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1599840"/>
            <a:ext cx="37555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15400" y="1599840"/>
            <a:ext cx="37555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838080" y="759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1600" y="1599840"/>
            <a:ext cx="37555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315400" y="1599840"/>
            <a:ext cx="37555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371600" y="3828600"/>
            <a:ext cx="37555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83808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371600" y="159984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808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1599840"/>
            <a:ext cx="37555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315400" y="1599840"/>
            <a:ext cx="37555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315400" y="3828600"/>
            <a:ext cx="37555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808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1599840"/>
            <a:ext cx="37555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315400" y="1599840"/>
            <a:ext cx="37555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1600" y="3828600"/>
            <a:ext cx="7696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1599840"/>
            <a:ext cx="7696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371600" y="3828600"/>
            <a:ext cx="7696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1599840"/>
            <a:ext cx="37555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315400" y="1599840"/>
            <a:ext cx="37555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600" y="3828600"/>
            <a:ext cx="37555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315400" y="3828600"/>
            <a:ext cx="37555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808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1599840"/>
            <a:ext cx="24778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973680" y="1599840"/>
            <a:ext cx="24778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575760" y="1599840"/>
            <a:ext cx="24778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371600" y="3828600"/>
            <a:ext cx="24778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973680" y="3828600"/>
            <a:ext cx="24778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575760" y="3828600"/>
            <a:ext cx="24778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808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371600" y="159984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808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71600" y="159984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71600" y="1599840"/>
            <a:ext cx="37555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315400" y="1599840"/>
            <a:ext cx="37555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808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371600" y="159984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838080" y="759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71600" y="1599840"/>
            <a:ext cx="37555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315400" y="1599840"/>
            <a:ext cx="37555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371600" y="3828600"/>
            <a:ext cx="37555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71600" y="1599840"/>
            <a:ext cx="37555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15400" y="1599840"/>
            <a:ext cx="37555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315400" y="3828600"/>
            <a:ext cx="37555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371600" y="1599840"/>
            <a:ext cx="37555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315400" y="1599840"/>
            <a:ext cx="37555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371600" y="3828600"/>
            <a:ext cx="7696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71600" y="1599840"/>
            <a:ext cx="7696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1371600" y="3828600"/>
            <a:ext cx="7696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808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71600" y="1599840"/>
            <a:ext cx="37555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315400" y="1599840"/>
            <a:ext cx="37555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1371600" y="3828600"/>
            <a:ext cx="37555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5315400" y="3828600"/>
            <a:ext cx="37555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371600" y="1599840"/>
            <a:ext cx="24778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973680" y="1599840"/>
            <a:ext cx="24778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575760" y="1599840"/>
            <a:ext cx="24778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1371600" y="3828600"/>
            <a:ext cx="24778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973680" y="3828600"/>
            <a:ext cx="24778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575760" y="3828600"/>
            <a:ext cx="24778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808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159984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808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371600" y="159984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1599840"/>
            <a:ext cx="37555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315400" y="1599840"/>
            <a:ext cx="37555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808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71600" y="1599840"/>
            <a:ext cx="37555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315400" y="1599840"/>
            <a:ext cx="37555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808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838080" y="759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71600" y="1599840"/>
            <a:ext cx="37555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315400" y="1599840"/>
            <a:ext cx="37555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371600" y="3828600"/>
            <a:ext cx="37555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371600" y="1599840"/>
            <a:ext cx="37555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315400" y="1599840"/>
            <a:ext cx="37555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15400" y="3828600"/>
            <a:ext cx="37555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371600" y="1599840"/>
            <a:ext cx="37555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315400" y="1599840"/>
            <a:ext cx="37555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1371600" y="3828600"/>
            <a:ext cx="7696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808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71600" y="1599840"/>
            <a:ext cx="7696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1371600" y="3828600"/>
            <a:ext cx="7696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371600" y="1599840"/>
            <a:ext cx="37555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315400" y="1599840"/>
            <a:ext cx="37555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371600" y="3828600"/>
            <a:ext cx="37555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5315400" y="3828600"/>
            <a:ext cx="37555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808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371600" y="1599840"/>
            <a:ext cx="24778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973680" y="1599840"/>
            <a:ext cx="24778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575760" y="1599840"/>
            <a:ext cx="24778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1371600" y="3828600"/>
            <a:ext cx="24778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973680" y="3828600"/>
            <a:ext cx="24778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575760" y="3828600"/>
            <a:ext cx="24778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838080" y="759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600" y="1599840"/>
            <a:ext cx="37555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315400" y="1599840"/>
            <a:ext cx="37555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371600" y="3828600"/>
            <a:ext cx="37555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808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1599840"/>
            <a:ext cx="37555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315400" y="1599840"/>
            <a:ext cx="37555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315400" y="3828600"/>
            <a:ext cx="37555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71600" y="1599840"/>
            <a:ext cx="37555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315400" y="1599840"/>
            <a:ext cx="37555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71600" y="3828600"/>
            <a:ext cx="7696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ppt-bkgd-1-v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3808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371600" y="159984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315360" indent="-31536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315360" indent="-31536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3" marL="315360" indent="-31536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4" marL="315360" indent="-31536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5" marL="315360" indent="-31536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6" marL="315360" indent="-31536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2" descr="ppt-bkgd-1-v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Respond Question Ma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.) Response 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.) Response 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.) Response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.) Response 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.) Response 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cent Complete 10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0: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ppt-bkgd-1-v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Respond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87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90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67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33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67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96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100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A*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B*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106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113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ppt-bkgd-1-v2-titl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808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1371600" y="159984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315360" indent="-31536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315360" indent="-31536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3" marL="315360" indent="-31536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4" marL="315360" indent="-31536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5" marL="315360" indent="-31536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6" marL="315360" indent="-31536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676160" y="1371240"/>
            <a:ext cx="73911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Punctuation Erro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67652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mily Heady, Ph.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raduate Writing Cent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Quotes in Quot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371600" y="159984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5800" indent="-68580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you have a quotation within a quotation, standard American usage indicates that you double the outermost quotes (“”) and use single quotes for the inner quotations (‘’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y dad said to me, “Your long-haired, so-called ‘best friend’ was just over here asking if you could loan her some money.  I told him ‘absolutely not.’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arenthes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371600" y="159984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5800" indent="-685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enthetical phrases and clauses need to fit the grammar of the whole sente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y brother was driving, and I was jealous.  (I was only thirteen that winter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y brother was driving, and I was jealous (I was only thirteen that winter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y brother was driving (I was thirteen), and I was jealou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y brother was driving, and I was jealous (was I thirteen that winter?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8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   Avoid overusing parentheses in academic writ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676160" y="1371240"/>
            <a:ext cx="73911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ometimes Rules Help…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67652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apitalization, Commas, and Apostroph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808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apitaliz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371600" y="159984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5800" indent="-6858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ways capitalize the first word of a sente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6858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cept in special cases (e.e. cummings), always capitalize proper names or official titl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6858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serve capitalization in quotations unless you have good reason for doing otherwise (a publisher’s standards, for instance).  If you must change the case of a letter, put the letter in bracke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6858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 not capitalize abstract nou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808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as: A Bunch of Rul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371600" y="159984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78600" indent="-678600">
              <a:spcBef>
                <a:spcPts val="9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Use a comma to join two sentences with “and,” “but,” or “or.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357560" indent="-452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cook, and I’ll do the dishe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57560" indent="-452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’ll cook and do the dish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786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Use a comma after an introductory word group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357560" indent="-452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you cook, I’ll do the dish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064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064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ore Rules…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371600" y="159984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a comma between items in a ser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’d rather not do the cleaning, laundry, or dish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8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a comma to set off added information only if that information is not absolutely necessar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y mother, who is a college professor, hates her job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 am looking for a college professor who hates his job.  [no comma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808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till More Rules…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371600" y="159984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. Use commas to set off transi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 was cloudy this morning, but, in fact, it did not rai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 was cloudy this morning; however, it did not rai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8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. Use commas to make reading easi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like Joe, Catherine loves to sing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err is human; to forgive, divin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ll, things didn’t go well; what happened, happen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ired Yet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371600" y="159984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7. Use commas to set off direct address or quota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ohn, would you come over he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ohn,” she shouted, “would you come over here?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85800" indent="-6858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 NOT use a comma every time you breath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85800" indent="-6858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 NOT use a comma whenever it seems like you (maybe, perhaps) shoul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808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postroph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371600" y="159984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5800" indent="-6858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ostrophes create contract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 don’t like him very much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eak ‘n’ Shake is a great restauran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85800" indent="-6858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ostrophes indicate possess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y mother’s job is better than all my brothers’ jobs put togeth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ckens’s later works are much darker than his early novel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85800" indent="-6858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 NOT use an apostrophe to form a plur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6858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member: “it’s” = “it is,” but “its” is the possessive for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676160" y="1371240"/>
            <a:ext cx="73911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Judgment Cal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167652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lons, Semicolons, Dashes, Hyphens, Ellipses, and Other Trouble Spo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808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ome Things We All Know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371600" y="159984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ur students often punctuate poorly, randomly, or not at all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f we mark every punctuation error, we’ll be grading until Jesus comes back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t’s hard to teach punctuation because students often don’t see its importanc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808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lons versus Semicol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371600" y="159984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5800" indent="-68580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ons and semicolons express a relationship between two halves of a senten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85800" indent="-68580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ons indicate that the second half of the sentence proceeds from the first half.  Colons mean “that is” or “what I mean by that is…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85800" indent="-68580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micolons create a list (but no stronger relationship than that).  They mean “and” or “also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l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371600" y="159984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78600" indent="-6786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them when the second half of the sentence further explains the first half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ohn is a very emotional person: he cries at the drop of a ha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 got just what I wanted for my birthday: a Denali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78600" indent="-6786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them to introduce a list that does not flow naturally with the rest of the sentenc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classroom was a cacophony of the sounds of 2007: iPods, cell phones, and laptop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78600" indent="-6786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do not need a colon if the list fits into the grammar of the sentenc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y favorite foods are chicken cacciatore, boeuf en daube, and Cheesy Wester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808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emicol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371600" y="159984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5800" indent="-685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micolons connect independent clauses in a “both-and” relationshi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y brother was sixteen years old that winter; I was thirte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 had a Mustang; I, however, wanted a Denali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85800" indent="-685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micolons separate items in a list when commas are not strong enough to do s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 bought fruits such as apples, pears, and bananas; meats such as chicken and pork; and cereals such as Cheerios, Kix, Crispix, and Circus Fu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808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ash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371600" y="159984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5800" indent="-685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shes indicate a full stop—a very strong pause in the sequence of a sentenc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cannot write without dashes—I sprinkle them like salt and pepper in my pros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85800" indent="-685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shes set off appositives (parenthetical expressions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y mother—a college professor—encouraged me to take my math classes my freshman yea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85800" indent="-685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yphens and dashes are not the same th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85800" indent="-685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void overusing dashes in formal writing (often colons or semicolons can be substituted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8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yphe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371600" y="159984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5800" indent="-68580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yphens create compound wor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have ninety-four Penguin edi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85800" indent="-68580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yphens make adjectives out of nou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woman was an African American.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e woman was African-America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like literature from the nineteenth century.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 like nineteenth-century literatu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8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 NOT use hyphens to introduce quota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808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llips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371600" y="159984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5800" indent="-685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lipses indicate that something has been omitt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ul urges, “Present your bodies . . . holy and acceptable to God” (Rom. 12:1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85800" indent="-685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you end a sentence with an ellipsis, you need FOUR periods instead of thre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8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 NOT use ellipses to create dramatic effect (especially in formal writing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results of this study were surprising to the researchers…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8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lipses may or may not be enclosed in brackets (depending on your citation style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8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at all possible, avoid using too many ellips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808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unctuating for Public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371600" y="159984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5800" indent="-685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journals/presses have their own house sty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685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e things to be aware of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umber of spaces after a perio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mas before “and” in a li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ritish versus American punctuation/spell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erving or standardizing capit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ength of indent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acing between paragraph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Italic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ersus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underli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aces between periods in ellip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rad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371600" y="159984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5800" indent="-685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you’re grading for punctuation, do NOT correct every error: it takes too long, and students will not learn as effectivel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685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k a paragraph or two, give the errors names, and then ask the students to correct the rest on their ow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685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cus on patterns of error rather than individual instances.  Try to distinguish between typos and more serious problem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808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asic Places Errors Occu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371600" y="159984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5800" indent="-6858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you come to the end of a sent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85800" indent="-6858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punctuation marks are doubled up, especially with quotations/cit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85800" indent="-6858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you need to know the rules to know how to punctu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85800" indent="-6858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judgment calls are nee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t the Ends of Sentenc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371600" y="159984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5800" indent="-68580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doubled peri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 not do this: I forgot to bring my I.D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le: One period at a time, please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85800" indent="-685800">
              <a:spcBef>
                <a:spcPts val="799"/>
              </a:spcBef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necessary emo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Beowulf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an epic adventure story that is as fresh today as ever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this essay, I focus on Grendel’s apparent lack of motivation for his actions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le: If it’s a statement, a period will suffi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676160" y="1371240"/>
            <a:ext cx="73911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oubled Punctu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167652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Quotations and Parenthe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itial Quotation Mark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371600" y="159984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5800" indent="-685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roduce a quotation with an initial phrase and a comma or an initial clause and a col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ccording to Jones, “Blah blah blah.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hortest verse in the Bible makes a powerful emotional statement: “Jesus wept.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85800" indent="-685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can also introduce a quotation by fitting it grammatically into the sentence (in which case you omit the comma or colon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 know from John 11:35 that “Jesus wept.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nds of Quot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371600" y="159984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5800" indent="-685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the sentence continues after the quotation, you’ll usually need a comma AFTER your quotation but BEFORE your final quotation mark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 wish this workshop were over,” John sai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 me,” Mary replied, “I’ve got to go to the dentist this afternoon.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85800" indent="-685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the quotation ends in an exclamation point or question mark, omit the comma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 hate going to the dentist!” John bellow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y are you talking so loudly?” asked Mar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808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nds of Sentences Cont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371600" y="159984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5800" indent="-685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the sentence ends with the quotation (and if there is no parenthetical citation), put your final mark of punctuation INSIDE the quotation mark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at dog is bigger than a Denali!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 don’t think so; Denalis are quite large.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85800" indent="-685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your sentence ends with a footnote, put the superscript number AFTER your final mark of punctua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ccording to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Car and Driv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the Denali is “among the most agile of full-sized sport utility vehicles.”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8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808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Quotations and Parenthetical Citat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371600" y="159984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5800" indent="-6858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the sentence ends with a parenthetical citation, omit the punctuation at the end of the quotation (unless it is a ? or a !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ccording to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Car and Driv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the Denali is “among the most agile of full-sized sport utility vehicles” (Csere 20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mith urges clients to ask, “What are you doing with your life?” (qtd. in Jones 15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85800" indent="-6858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member that the end-of-sentence punctuation must fit with the WHOLE sentence—not just the quot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Csaba Csere says that the Denali is “among the most agile of full-sized sport utility vehicles” (20), then why shouldn’t I get one for my sixteenth birthday, Dad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1T16:22:11Z</dcterms:created>
  <dc:creator>Administrator</dc:creator>
  <dc:description/>
  <dc:language>en-US</dc:language>
  <cp:lastModifiedBy>Nadia Williams</cp:lastModifiedBy>
  <dcterms:modified xsi:type="dcterms:W3CDTF">2014-03-07T17:21:12Z</dcterms:modified>
  <cp:revision>10</cp:revision>
  <dc:subject/>
  <dc:title>Common Punctuation Error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ShowTimer">
    <vt:bool>1</vt:bool>
  </property>
</Properties>
</file>